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or.wav" ContentType="audio/x-wav"/>
  <Override PartName="/ppt/media/image1.jpeg" ContentType="image/jpeg"/>
  <Override PartName="/ppt/media/image2.png" ContentType="image/png"/>
  <Override PartName="/ppt/media/image3.jpeg" ContentType="image/jpeg"/>
  <Override PartName="/ppt/media/timesup%5B1%5D.wav" ContentType="audio/x-wav"/>
  <Override PartName="/ppt/media/image4.jpeg" ContentType="image/jpeg"/>
  <Override PartName="/ppt/media/thinktheme%5B1%5D.wav" ContentType="audio/x-wav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applaus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45F-3436-4019-9B1A-0D467BEF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970-8966-47E1-BC61-ACE02DB2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1BF-9251-41E0-B1EC-3EE39096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21F-B419-4D00-98C7-2863A986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329-A125-4373-80D1-1E9F1536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55B-4FC8-4952-BA75-C0D635D8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795-926A-4EFE-AF4D-3FB4EB34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E3A-8F50-4368-8C71-9A93C50D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7D6-25AF-4023-8DD8-70842A63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136-F9A0-4DD6-AC11-40C244BF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90B-72EF-4799-93B4-B64B984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482-01C7-4E90-888A-4AE30B85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AF83-62F3-4144-91CB-A2426A143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23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14.xml"/><Relationship Id="rId21" Type="http://schemas.openxmlformats.org/officeDocument/2006/relationships/slide" Target="slide19.xml"/><Relationship Id="rId22" Type="http://schemas.openxmlformats.org/officeDocument/2006/relationships/slide" Target="slide24.xml"/><Relationship Id="rId23" Type="http://schemas.openxmlformats.org/officeDocument/2006/relationships/slide" Target="slide14.xml"/><Relationship Id="rId24" Type="http://schemas.openxmlformats.org/officeDocument/2006/relationships/slide" Target="slide15.xml"/><Relationship Id="rId25" Type="http://schemas.openxmlformats.org/officeDocument/2006/relationships/slide" Target="slide20.xml"/><Relationship Id="rId26" Type="http://schemas.openxmlformats.org/officeDocument/2006/relationships/slide" Target="slide20.xml"/><Relationship Id="rId27" Type="http://schemas.openxmlformats.org/officeDocument/2006/relationships/slide" Target="slide25.xml"/><Relationship Id="rId28" Type="http://schemas.openxmlformats.org/officeDocument/2006/relationships/slide" Target="slide25.xml"/><Relationship Id="rId29" Type="http://schemas.openxmlformats.org/officeDocument/2006/relationships/slide" Target="slide10.xml"/><Relationship Id="rId30" Type="http://schemas.openxmlformats.org/officeDocument/2006/relationships/slide" Target="slide10.xml"/><Relationship Id="rId31" Type="http://schemas.openxmlformats.org/officeDocument/2006/relationships/slide" Target="slide11.xml"/><Relationship Id="rId32" Type="http://schemas.openxmlformats.org/officeDocument/2006/relationships/slide" Target="slide11.xml"/><Relationship Id="rId33" Type="http://schemas.openxmlformats.org/officeDocument/2006/relationships/slide" Target="slide16.xml"/><Relationship Id="rId34" Type="http://schemas.openxmlformats.org/officeDocument/2006/relationships/slide" Target="slide21.xml"/><Relationship Id="rId35" Type="http://schemas.openxmlformats.org/officeDocument/2006/relationships/slide" Target="slide26.xml"/><Relationship Id="rId36" Type="http://schemas.openxmlformats.org/officeDocument/2006/relationships/slide" Target="slide17.xml"/><Relationship Id="rId37" Type="http://schemas.openxmlformats.org/officeDocument/2006/relationships/slide" Target="slide22.xml"/><Relationship Id="rId38" Type="http://schemas.openxmlformats.org/officeDocument/2006/relationships/slide" Target="slide27.xml"/><Relationship Id="rId39" Type="http://schemas.openxmlformats.org/officeDocument/2006/relationships/slide" Target="slide12.xml"/><Relationship Id="rId40" Type="http://schemas.openxmlformats.org/officeDocument/2006/relationships/slide" Target="slide32.xml"/><Relationship Id="rId41" Type="http://schemas.openxmlformats.org/officeDocument/2006/relationships/slide" Target="slide31.xml"/><Relationship Id="rId42" Type="http://schemas.openxmlformats.org/officeDocument/2006/relationships/slide" Target="slide30.xml"/><Relationship Id="rId43" Type="http://schemas.openxmlformats.org/officeDocument/2006/relationships/slide" Target="slide30.xml"/><Relationship Id="rId44" Type="http://schemas.openxmlformats.org/officeDocument/2006/relationships/slide" Target="slide29.xml"/><Relationship Id="rId45" Type="http://schemas.openxmlformats.org/officeDocument/2006/relationships/slide" Target="slide28.xml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.png"/><Relationship Id="rId4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thinktheme%5B1%5D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audio" Target="../media/timesup%5B1%5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752480"/>
            <a:ext cx="8001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cial Sci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mester I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p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1040" y="2419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3623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group tried unsuccessfully to establish a nation since the breakup of the Ottoman Emp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904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71600" y="38088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ic 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4572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u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2736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0574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strip of land on the west side of the Jordan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35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71600" y="38088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ic 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6576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st 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70160" y="2038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362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branch of Muslims make up about 83% of all Musli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35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71600" y="38088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ic 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962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648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3505320"/>
            <a:ext cx="691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186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95480" y="0"/>
            <a:ext cx="28195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3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25909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river that Hindus wade in to wash away their s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49528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nges 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6480" y="280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514600"/>
            <a:ext cx="71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900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3372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opic 3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1337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system of social classes in In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114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st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244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opic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1337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nations control Kashm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429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a, Pakistan,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51040" y="363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opic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oes karma relate to sams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809880"/>
            <a:ext cx="51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next life depends on the good/bad work (or karma) you’ve done in this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048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7400" y="3808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opic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191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t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2590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broadened seaward at the end of a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9040" y="1270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422440" y="15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09760" y="2043000"/>
            <a:ext cx="62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Three Gorges Dam is being built on this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472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opic 4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4038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angt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915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498760" y="1581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752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volcano is the best known landform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opic 4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809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unt Fu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82840" y="6095880"/>
            <a:ext cx="4149360" cy="5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Final Jeopard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0"/>
            <a:ext cx="11430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u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5" action="ppaction://hlinksldjump"/>
              </a:rPr>
              <a:t>5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6" action="ppaction://hlinksldjump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16002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2004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48006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64008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16002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32004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48006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64008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32004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48006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7" action="ppaction://hlinksldjump"/>
          </p:cNvPr>
          <p:cNvSpPr/>
          <p:nvPr/>
        </p:nvSpPr>
        <p:spPr>
          <a:xfrm>
            <a:off x="64008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16002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1" action="ppaction://hlinksldjump"/>
          </p:cNvPr>
          <p:cNvSpPr/>
          <p:nvPr/>
        </p:nvSpPr>
        <p:spPr>
          <a:xfrm>
            <a:off x="16002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3" action="ppaction://hlinksldjump"/>
          </p:cNvPr>
          <p:cNvSpPr/>
          <p:nvPr/>
        </p:nvSpPr>
        <p:spPr>
          <a:xfrm>
            <a:off x="32004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4" action="ppaction://hlinksldjump"/>
          </p:cNvPr>
          <p:cNvSpPr/>
          <p:nvPr/>
        </p:nvSpPr>
        <p:spPr>
          <a:xfrm>
            <a:off x="48006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5" action="ppaction://hlinksldjump"/>
          </p:cNvPr>
          <p:cNvSpPr/>
          <p:nvPr/>
        </p:nvSpPr>
        <p:spPr>
          <a:xfrm>
            <a:off x="64008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6" action="ppaction://hlinksldjump"/>
          </p:cNvPr>
          <p:cNvSpPr/>
          <p:nvPr/>
        </p:nvSpPr>
        <p:spPr>
          <a:xfrm>
            <a:off x="32004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7" action="ppaction://hlinksldjump"/>
          </p:cNvPr>
          <p:cNvSpPr/>
          <p:nvPr/>
        </p:nvSpPr>
        <p:spPr>
          <a:xfrm>
            <a:off x="48006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8" action="ppaction://hlinksldjump"/>
          </p:cNvPr>
          <p:cNvSpPr/>
          <p:nvPr/>
        </p:nvSpPr>
        <p:spPr>
          <a:xfrm>
            <a:off x="64008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9" action="ppaction://hlinksldjump"/>
          </p:cNvPr>
          <p:cNvSpPr/>
          <p:nvPr/>
        </p:nvSpPr>
        <p:spPr>
          <a:xfrm>
            <a:off x="16002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0" action="ppaction://hlinksldjump"/>
          </p:cNvPr>
          <p:cNvSpPr/>
          <p:nvPr/>
        </p:nvSpPr>
        <p:spPr>
          <a:xfrm>
            <a:off x="8001000" y="51814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1" action="ppaction://hlinksldjump"/>
          </p:cNvPr>
          <p:cNvSpPr/>
          <p:nvPr/>
        </p:nvSpPr>
        <p:spPr>
          <a:xfrm>
            <a:off x="8001000" y="44956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42" action="ppaction://hlinksldjump"/>
          </p:cNvPr>
          <p:cNvSpPr/>
          <p:nvPr/>
        </p:nvSpPr>
        <p:spPr>
          <a:xfrm>
            <a:off x="8001000" y="3733920"/>
            <a:ext cx="11430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44" action="ppaction://hlinksldjump"/>
          </p:cNvPr>
          <p:cNvSpPr/>
          <p:nvPr/>
        </p:nvSpPr>
        <p:spPr>
          <a:xfrm>
            <a:off x="8001000" y="304812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45" action="ppaction://hlinksldjump"/>
          </p:cNvPr>
          <p:cNvSpPr/>
          <p:nvPr/>
        </p:nvSpPr>
        <p:spPr>
          <a:xfrm>
            <a:off x="8001000" y="2438280"/>
            <a:ext cx="11430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6324480"/>
          <a:ext cx="304920" cy="30492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83808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952400" y="864000"/>
            <a:ext cx="1183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51040" y="4324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6019920"/>
            <a:ext cx="104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opic 4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18288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main reason China was safe from invaders in ancient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20040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ography: mountains, desert, oc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7016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18600" y="60958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opic 4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1752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country does not recognize Taiwan as an independent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727360" y="4172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472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62320" y="304920"/>
            <a:ext cx="4228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opic 4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9051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river is know for its deadly fl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3657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ang He (Yellow) 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0996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32280" y="1428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422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19051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huge crack in the Earth’s surface found in Af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38862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ift Val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5080" y="2647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ch religion calls for prayers, a pilgrimage, and giving to th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6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7504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55960" y="3486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752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group fights for the right of return for Palestini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3505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lestinian Liberation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51040" y="3409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9810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are two similarities between the Nile River and the Yangtze Ri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350532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th caused major flooding and now have huge dams built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75080" y="340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49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905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building blocks of a nation that allows it to run.  Examples are roads, sewer systems, telephone wir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4038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965240" y="2266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ic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2209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is a volcano with it’s top blown off and looks like an i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038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ic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is a depression in the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3962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pic 1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7115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rica is called this because it has low elevations along the coast that rise towards the center of the conti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4191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teau conti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57508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088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ic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departure of native African professionals to Western countries is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39625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ain Drai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72736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9492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ic 6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1981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desert is the most famous in SW Asia and is also know as the Empty Quar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39625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ub al-Kh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565440" y="440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46480" y="310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4920" y="53341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ic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828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rivers flood they deposit soil on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4114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luvial pl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33520" y="1981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ate the region (Africa, SW Asia, South Asia, East Asia) each country is in.:  Iran, Pakistan, Japan, Sudan, Egypt, China, Saudi Arabia, 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65240" y="285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38480" y="6338880"/>
            <a:ext cx="1067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981080" y="380880"/>
            <a:ext cx="5067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819520" y="3048120"/>
            <a:ext cx="360360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ime is up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514600" y="5638680"/>
            <a:ext cx="4257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u have 20 sec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44197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fric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Sudan, Egypt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W As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Iran, Saudi Arabia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uth As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Pakistan, India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ast As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Japan,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inktheme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895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228600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largest lake in Africa and sits between two rift vall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38280" y="457200"/>
            <a:ext cx="4229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pic 1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472428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86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ke Vic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5240" y="89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35000" y="2712960"/>
            <a:ext cx="52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pic 1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20968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 this conference, Europeans met to decide how to divide up Af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40384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rlin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55760" y="2495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133720"/>
            <a:ext cx="521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49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pic 1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182880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where an individual would be gazing at a wildebeest through tall gr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4343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Sereng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75080" y="1962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362320"/>
            <a:ext cx="5790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pic 1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1981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land was the departure point for slave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191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ree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2514600"/>
            <a:ext cx="58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71600" y="38088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ic 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1337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type of desert results when moisture from soil evaporates and chemical salts re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8862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lt 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2096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name given to a nation of people without land to legally occu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7088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47920" y="3049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ic 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352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teless 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6:43:42Z</dcterms:created>
  <dc:creator>IPSD 204</dc:creator>
  <dc:description/>
  <dc:language>en-US</dc:language>
  <cp:lastModifiedBy>Buffalo Grove High School</cp:lastModifiedBy>
  <cp:lastPrinted>2003-09-29T17:45:32Z</cp:lastPrinted>
  <dcterms:modified xsi:type="dcterms:W3CDTF">2008-05-28T13:50:09Z</dcterms:modified>
  <cp:revision>109</cp:revision>
  <dc:subject/>
  <dc:title>No Slide Title</dc:title>
</cp:coreProperties>
</file>